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3748"/>
        <c:axId val="54738885"/>
      </c:barChart>
      <c:catAx>
        <c:axId val="6573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38885"/>
        <c:crosses val="autoZero"/>
        <c:auto val="1"/>
        <c:lblAlgn val="ctr"/>
        <c:lblOffset val="100"/>
        <c:noMultiLvlLbl val="0"/>
      </c:catAx>
      <c:valAx>
        <c:axId val="54738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3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93D-986D-4BA1-92F8-09501111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252-09DB-42F5-B871-6A75F58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D58-71F2-4F10-A2EF-47B662C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004-F406-41AB-A7C4-05869376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5B6-1C02-4998-BC58-A2F0032C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984-89CD-40F3-AF86-79FF99CE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5E6-C6CD-4A85-AC60-F252E639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117-1BEE-4211-BCF2-DAFA573E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E87-C3CC-4241-B810-B49CA3A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249-A391-40CD-993C-A5BCE28D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B2E-3D0D-442E-B472-17E336A3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CA3-406D-418D-8D00-B8FB135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F914F-AAE3-4098-B7C9-F47380D341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