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23577"/>
        <c:axId val="79038895"/>
      </c:barChart>
      <c:catAx>
        <c:axId val="54823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38895"/>
        <c:crosses val="autoZero"/>
        <c:auto val="1"/>
        <c:lblAlgn val="ctr"/>
        <c:lblOffset val="100"/>
        <c:noMultiLvlLbl val="0"/>
      </c:catAx>
      <c:valAx>
        <c:axId val="79038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3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A3A-12F0-4C1D-8596-677D884A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34E-3B12-45D3-90EA-CE1F06A9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6C8-6039-45A4-A86D-12C5E213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FBC-71A1-4702-A9E2-6D8E0A33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32D-76EF-4FC4-A4A9-87E5558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54B-7A7A-4903-B7C8-C71BD242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F09-69F5-451B-A96C-7DB4406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044-15D0-449F-93DA-B0F6A46F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E7B-5B40-4A85-AD0C-B106311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529-56FA-40B0-9E25-EFDF8A5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489-02EC-437D-A01A-D7159AC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F08-BBE8-43E3-920F-976A582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83359-FC65-4D5F-99FC-BBB70EB647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