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62253"/>
        <c:axId val="54842294"/>
      </c:barChart>
      <c:catAx>
        <c:axId val="45462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42294"/>
        <c:crosses val="autoZero"/>
        <c:auto val="1"/>
        <c:lblAlgn val="ctr"/>
        <c:lblOffset val="100"/>
        <c:noMultiLvlLbl val="0"/>
      </c:catAx>
      <c:valAx>
        <c:axId val="54842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62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470-AC74-49FB-90DD-B312FB75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404-C3AC-4F7E-AF11-D437BC73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930-BCA8-4CC8-B5C3-5FC46BD7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13B-BAE1-4C64-BD50-C5DB8A28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060-66D7-4DF3-93A2-A099C9D9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B71-212F-41E4-9F0F-87675BA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76D-4801-46A0-8078-BE467082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D91-3A17-4E00-A595-4CF58395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C05-F434-4B3B-98F6-A2699965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D73-CD0E-44A8-B42F-C818AB4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F1E-F589-4E30-A7AF-03983B4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A01-97F9-4542-9723-B5FDC3F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EC01C-6008-499C-A5CE-0E109B96CA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