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89707"/>
        <c:axId val="54439350"/>
      </c:barChart>
      <c:catAx>
        <c:axId val="14389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39350"/>
        <c:crosses val="autoZero"/>
        <c:auto val="1"/>
        <c:lblAlgn val="ctr"/>
        <c:lblOffset val="100"/>
        <c:noMultiLvlLbl val="0"/>
      </c:catAx>
      <c:valAx>
        <c:axId val="54439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89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4F6-472B-4EE4-982D-C77DAB08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1DD-A09E-45BD-987E-642FC584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45C-3935-4039-8548-2AA6AA6A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3CA-0A8F-4CB3-BBE1-98828882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B79-86A0-424B-BCAE-41B90A9F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66D-0D2C-456B-A81C-C4B5BF0C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90B-C1FC-4186-8F2D-62E9E9D9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219-239D-4503-803D-B58DEC0B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BAE-3EA2-444E-A2B7-82B3323E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267-9E20-40AF-9F49-4E238E91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A67-8247-4810-9899-C890E05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751-67FB-493C-B6DF-8E47AFF8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6A9F3-3262-4CBE-9BC1-1C9EB75DCF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