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50523"/>
        <c:axId val="21024896"/>
      </c:barChart>
      <c:catAx>
        <c:axId val="20750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24896"/>
        <c:crosses val="autoZero"/>
        <c:auto val="1"/>
        <c:lblAlgn val="ctr"/>
        <c:lblOffset val="100"/>
        <c:noMultiLvlLbl val="0"/>
      </c:catAx>
      <c:valAx>
        <c:axId val="21024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0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D2D-138B-46C0-9B83-CBCB762E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981-CD7F-48EF-AC3B-BAA482C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58A-E3E5-4469-B81C-84DEB04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DA1-479C-41D5-8C19-FE25443A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E53-13FA-4F6A-BD78-820BC4ED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86-8C08-410F-A321-4A6C0FBF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00A-087A-4F60-BF60-84E86BE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0A2-35A4-4130-A260-7E73BD7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0DF-BE08-459F-9493-65E14BD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8DF-3EAF-4EFD-962F-0E5FA76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2E8-4E64-427D-8845-E6CDDD4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D46-84B9-404E-A539-DD249D0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033F-C458-4809-A8AD-CC67DD6F3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