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478456"/>
        <c:axId val="18956679"/>
      </c:barChart>
      <c:catAx>
        <c:axId val="26478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56679"/>
        <c:crosses val="autoZero"/>
        <c:auto val="1"/>
        <c:lblAlgn val="ctr"/>
        <c:lblOffset val="100"/>
        <c:noMultiLvlLbl val="0"/>
      </c:catAx>
      <c:valAx>
        <c:axId val="189566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78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8E7-EBB8-4A4B-94B5-85DD3BD7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0A1E-2577-416C-98BD-79460107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9984-A0DC-4F5B-85B8-F19F9A1A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00B5-5964-4332-B7F2-0A17A687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6159-1B35-4B5E-B589-82C8BFF1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6291-5327-402A-A3C3-0F09145E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5027-A3E5-43B4-A1F9-962877B1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42A0-0FB4-44E1-B097-13507C5F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403-9364-4589-A91F-72AB8386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9CA7-B649-4F5E-B31B-587004BF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6CF3-F448-4938-A454-F645A2EE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2CC8-87E7-4FE8-A4C5-2B6F1B1F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69CBD-93CD-41C8-BDDB-8DA47C959B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