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49618"/>
        <c:axId val="2707258"/>
      </c:barChart>
      <c:catAx>
        <c:axId val="26149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7258"/>
        <c:crosses val="autoZero"/>
        <c:auto val="1"/>
        <c:lblAlgn val="ctr"/>
        <c:lblOffset val="100"/>
        <c:noMultiLvlLbl val="0"/>
      </c:catAx>
      <c:valAx>
        <c:axId val="2707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49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3F4-D99B-4832-90BA-D7549911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A40-4F71-47E9-A699-0707731E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D01-BA20-490B-8CD2-A811C64A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FC5-925B-4C61-A12C-1406DEC4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62B-12F1-412C-BA20-282A8E82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B6C-137A-4B87-89BA-908B6266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23A-8242-4CD3-A731-4DD0BBB7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A67-97F7-4DF5-BA0C-5A7AF945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536A-6B0A-4DBB-BA09-A02AA393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BC2-83D3-4575-83EB-8DDC68D5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61E-4B29-498D-97F3-5AA563D5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D60-C572-47A0-AD6B-2E5F65BE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FC8E1-3707-4ECD-9DD6-6184E3779F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