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03237"/>
        <c:axId val="87360495"/>
      </c:barChart>
      <c:catAx>
        <c:axId val="44803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0495"/>
        <c:crosses val="autoZero"/>
        <c:auto val="1"/>
        <c:lblAlgn val="ctr"/>
        <c:lblOffset val="100"/>
        <c:noMultiLvlLbl val="0"/>
      </c:catAx>
      <c:valAx>
        <c:axId val="87360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03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C3A-F551-41F7-B7C9-083F2764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2C2-831F-4922-901D-890CFA73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EEB9-FC35-482E-8731-79A10633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77C-1EED-4562-BD52-5DC07B04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B051-4172-4E1F-96DF-851D728A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9DE-1DEC-446C-9D1A-36D3E59B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8FA-D651-44FF-974C-AB3776EB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E850-39B0-40C9-A354-40F07073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2F9-00F4-48CF-BEA8-56BE920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672-D9ED-4D2C-8DB9-7865AE81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CF1-5020-4263-B5C8-358E83F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514-DCB7-4B16-8DE2-1769592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B896A-0950-433B-8592-FBCC728A8D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