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10601"/>
        <c:axId val="59802404"/>
      </c:barChart>
      <c:catAx>
        <c:axId val="84110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2404"/>
        <c:crosses val="autoZero"/>
        <c:auto val="1"/>
        <c:lblAlgn val="ctr"/>
        <c:lblOffset val="100"/>
        <c:noMultiLvlLbl val="0"/>
      </c:catAx>
      <c:valAx>
        <c:axId val="59802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10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191-0786-49DC-9FCE-B3B5D2AD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232-E5EE-497B-BEAF-23E2C31D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648-86ED-4634-855C-32A089D4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78B-35CC-4175-8005-FF1428B6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268-415D-44AD-8E94-71206F69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6CA-2C88-43B8-9590-A2B3C87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02C-310C-4A70-8814-BC1156C8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F91-9AF3-4415-BA18-58D3981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EE2-2824-431A-9332-409C0DDE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93B-4DDE-478C-A913-A092560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E76-DDDD-4D2C-9CB5-A183DFF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982-A15C-409A-8DD4-A270292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DB42D-922C-4291-BCB4-B8739B35A3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