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759EC-9759-4CC9-9035-0BA681B4C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892E2-3918-4D76-8691-F0078943A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44CB3-6D24-43B6-976D-2C444CA36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5DAD7-C439-49C3-9721-3DFDAB891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ACE40-1EB6-4226-B9D3-A915E36B9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B8292-405B-4780-A819-36E1AC577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0CDC7-AAEE-4A52-A968-2CAB8C2D2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8E0FF-8A03-417A-B5F3-959828E8E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02BE2-EBD3-46F7-8DE1-C60D1E6A4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16833-66DA-47A0-AB57-E810248E7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D2CCE-BE70-4562-AE98-DEBA8190D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D4ED7-3B69-494F-8795-78B559FAB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945ABC-8E70-43E3-AD72-BD713FD7D51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60BBB72-0953-47D4-BD6F-095FF9CE4C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rome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ome te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4T21:58:53Z</dcterms:created>
  <dc:creator>Deepak Gopal</dc:creator>
  <dc:description/>
  <dc:language>en-US</dc:language>
  <cp:lastModifiedBy>Deepak Gopal</cp:lastModifiedBy>
  <dcterms:modified xsi:type="dcterms:W3CDTF">2010-11-24T21:59:21Z</dcterms:modified>
  <cp:revision>1</cp:revision>
  <dc:subject/>
  <dc:title>Chrome test</dc:title>
</cp:coreProperties>
</file>