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82424"/>
        <c:axId val="95203296"/>
      </c:barChart>
      <c:catAx>
        <c:axId val="29182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03296"/>
        <c:crosses val="autoZero"/>
        <c:auto val="1"/>
        <c:lblAlgn val="ctr"/>
        <c:lblOffset val="100"/>
        <c:noMultiLvlLbl val="0"/>
      </c:catAx>
      <c:valAx>
        <c:axId val="95203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82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047-CFA2-466A-8127-56CF8300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DF2-7A38-443A-9EB6-2F7991DB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556-D918-4DB2-92E0-5FEF6EC0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BA2-F48C-469C-9434-FA5D2C5C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0F6-E3C7-42D1-9313-6E32A55D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0DE-E4CA-4FF8-A9B8-04954B63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7ED-F804-44A8-9C64-989315CD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7CE-79D7-4FFF-9D4C-72E92450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E67-8FCA-4BB6-B07F-C084802D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FE3-C6DB-4309-943C-6288D5FE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808-2EAE-439A-A81F-E8E4BE2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37A-0206-4300-A313-E3D0023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BA276-A1F1-4993-B22A-652C6566D1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