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58040"/>
        <c:axId val="61441614"/>
      </c:barChart>
      <c:catAx>
        <c:axId val="84558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41614"/>
        <c:crosses val="autoZero"/>
        <c:auto val="1"/>
        <c:lblAlgn val="ctr"/>
        <c:lblOffset val="100"/>
        <c:noMultiLvlLbl val="0"/>
      </c:catAx>
      <c:valAx>
        <c:axId val="61441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8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2E3-EDEF-4A1D-84C9-3CF8964D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F33-38F5-4AA3-9ED1-D62FF2AE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C96-A6BF-4FE4-83D0-CE98AB64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FC8-FABD-4A4F-B7C7-60AC8904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99C-BBE0-4769-AB82-8688A607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EEC-EA6E-4062-A6E8-F33A67FF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7A0-0422-43A0-A873-180333E1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4DE-41E7-416B-9B14-6866FFCE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9BD-908C-4DD8-9A9C-C95DB40E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257-AA75-4A0B-8DF4-6F948CC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5A8-A5F3-492F-B715-0B1EAD6A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4B8-1E36-46C5-A5F5-D4E7B99B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962B4-FA55-4C38-8B60-C211A7ADAF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