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524-AA04-45C1-9092-B6CEF67D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AE3-ED57-4A2F-98F3-EA53BEF2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6E64F-FD01-4F27-A802-9B7D6B44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6F075-88A3-42C0-8275-68EE5809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909CD-6FFF-4592-9C58-197216BD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DB7FC-8AF2-42F9-8C3E-15502142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5A9E8-309A-49AB-99D6-33521A2D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B8825-35A0-4183-BF6A-23D7186A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09FAD-BDEF-438C-B873-7DF436C9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729DC-A55A-40EC-8127-1EA3BDC3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B8D82-6E45-4370-9C26-A19DC499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360C66-4A85-45D9-9E4A-228D8191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5F1-6C94-4B5F-99A0-9BF7FE08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59B470-73D2-4254-966A-178938A5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B0851A-AAC2-4140-A08C-37CC1D71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4918BA-332C-4311-B649-D4B0486B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CF3E6A-015F-4F1A-93F8-0B4BDB9F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AA2F14-3038-47A6-B8C4-7C17BF06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1E33C2-B0A0-4EE7-A36F-EC2CF735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42BBD9-9B0E-4DE9-8FC5-B3F85794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026AC0-111B-4DBF-A030-611BB9A8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731161-F260-4A62-BABF-6BFBA9F5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2E9261-D274-4D3C-AE0A-BD555DA4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6D0-44E4-45E2-99FC-A87246E0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724D43-1CD6-4D78-BC5A-D2BE35B8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24042-222B-4042-9BDE-D8FD62C2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18BD3-7003-441B-9A3B-127B56AB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2BFD4-4C52-4568-A530-A4EE4290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C0B3B-B72B-4CD6-B107-89F93042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62641-9925-41FF-925D-0253765A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AC9BB-652C-414B-9D27-D79651B4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88C90-9589-40C0-8A4D-19E0943D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D7610-E3AA-4C7A-B196-488203CD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1977C-82EC-43E4-A8FA-8A316AB1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6DBB-485F-4B68-ADDA-6A451DA2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0D680-EC25-410C-A792-DC8B95F8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9C355-5310-4B74-AB75-5713826A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CF647-2EFB-469A-A958-4842F7C5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D5B5D-D69B-4356-A0BB-CF6A074C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9FBE3-F1BE-46D4-84F4-875A16AE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972A1-3D40-48EF-A2E7-CA99D033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D2257-DBE2-4622-B945-7117E1F7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04B31-4D1D-4206-A808-B9A16E4B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74302-F59F-41FA-B33B-BFECB16D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592DE-A0BA-4A9E-9447-D97CAB4F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39DC-314D-4375-A302-A27A1C7B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53457-A78E-4B1F-A5BE-E9A2CFE4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40CDA-B29C-4027-AE78-A6421E90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C5A72-3CB7-4276-9535-F017525F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463CD-DD11-4DB4-8DE0-2B48FEB2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1E5AB-8242-444A-A7FD-80E149CB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F494-1646-4BBF-AEAE-260C4DB7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F0E9-FBA8-401F-AAAA-8B5D5B4E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68FE-00F9-47F0-BA47-ABB4E89D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5D0C-AEE8-4B42-AA9B-F030C4D8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4740-A570-4DFD-8A54-D9A75D35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1B9-B60A-4F8E-80AC-7A7D440A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368D-DD1C-43FA-B274-0595838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27BD-CD30-4BA6-85C3-6165A4A7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9434-01ED-4A77-8C69-1D6DB1DA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EC0F-5DB2-43C4-A494-D64DDF79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3C8C-FE02-4456-8895-5D550EBD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53B56-6352-4539-A8AD-1222C79E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4129-3198-4665-B52F-CF351013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D506-2D87-4119-9E57-84DCAB44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C742-0682-460B-927F-C5EC04BA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6BC1-16E3-4B30-9DA0-0B9E7D40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58F-B5B3-47BF-9192-77646ED1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E84A-0C6F-45B8-9F75-40819D02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B75E-7428-4F45-9D59-F0BDF7A0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1F389-98E0-4D16-9523-EE0FB74D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9166-7CAB-495E-BC5E-122F136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38C1-70F5-487F-9911-4309AF30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09E0-0A96-4796-9EC4-426C4338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0C2B-60F2-49FB-A7CB-54F74469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D623-AB86-4145-89BE-8092F46C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0919-6BEC-4F16-8D02-C38AE8DE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46BE-2640-47F0-A4AF-1E299CC8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33E-389A-4F24-A3CD-29604115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704E-6E44-4119-AF21-C85D50EB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37B11-BB2C-4152-9D1E-6CFEB146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73C31-B643-421A-929E-CACBAF17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753CE-BE6C-4307-BD61-215F73E2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BA64-1F51-4481-B88D-61719F1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E4F38-FE36-40A1-ADA1-9F4FD6A8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3C54E-15A8-45EA-9CC3-E76D4B76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27F6-6B8D-49EF-B4A5-3C22B9BE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6E23-E77E-4FAB-8AA1-46C87FAF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3A7CE-9120-451A-9D97-F7211957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19B-097B-446C-8B11-876734DB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60F9C-B74D-43FB-947B-1CEBAE87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02F27-E8A3-424E-A4BF-0F4C8B2F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E4FB6-B4CA-4395-BEDB-CC21CDE9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0722F-BCB5-4AD0-8757-C6AD4C45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C4639-74B0-43EF-99E1-81E71A6D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E5434-4B9C-4CC6-824A-E91DACC7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43C77-AEE7-41E9-B4D0-FE95542B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7DF25-20B0-4C17-9D7E-B281E26E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96609-11A0-4C53-9CFB-FDA97CE6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F94BA-DB17-45E5-995C-C354E6B8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09D-7F6D-4F31-B3DA-4AF94C5D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F935C-3683-4D15-8801-89525DF4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49727-FF13-4B08-A38B-534296D2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4CDEA-222F-4C7C-8CBE-FDE01E92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4BEE3-B5FE-4C09-B3C0-686E9DBC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EF1A2-C6B1-4CFA-BA4C-98BDC247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D2D8A-2598-4725-B773-291D6D20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5F5A3-EC06-425D-A184-CE29A5B6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B6883-5205-4E39-AA47-3612BD9F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D1BC3-75E5-4E73-A510-257CED57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A1783-83C1-49C1-A62D-AF0A424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731-797D-4E76-9533-91DF4B7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D3EAC-3A3A-46FD-8536-155F424A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03C71-B7DB-418C-9DE0-F19B83F4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07792-F934-4266-ABA4-68CCADBB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6AC7E-12DE-4D30-B448-0CFC385F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338BE-E189-417B-B554-79C94D1B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6843E-5220-49FC-AA84-18785815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10419-5700-4313-A77C-53FA5A9C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86118-E419-419A-9D0D-FCB61C2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E2CD9-7608-4C12-A3EF-E2B4E167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33395-4D03-4B58-B98B-377A2B4A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AA7-47F5-497F-88BA-9B42AC45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212FF-9885-4113-B605-DDB269FB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746C7-20CF-45EA-957C-C87E68FF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BC55B-25BC-48D7-B8EF-075B4473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01DE3-0BCC-4C54-8BB6-C295839D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E6D6-597E-4F33-92D5-C24A2E02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DABEF-B3C0-4C6C-A126-4155163C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6E700-077D-4BCE-988F-F1E34250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8BBF8-5489-403E-B699-2FD48226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9039E-4910-44A0-B828-735AE3E0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4767B-9920-4A68-A133-58E96615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172-986E-4DF9-A266-5F4813F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4ECB1-B9EE-44FC-ABA4-D9464F1D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B2E58-B0F9-4887-A1FF-8BB9D425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78729-2AB6-495E-A360-981E4DB6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9B3EC-79EF-4DF5-A50F-363788AC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81E62-103D-493A-A9ED-0B1FE049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A7E3-4D52-42BC-B57C-96083B53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B35EF-600A-494A-BCB4-57C19A98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C9E5C-E63F-4F2C-855D-AEF7F77A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2AA61-5F89-40D8-A75F-48417C96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E133C-41B4-4C43-920B-D713681A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0FC9-7926-4848-A433-6CD91EF900B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8946-31E4-4EB3-8208-A151923EC4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9BBF-A0AC-4E6C-962E-202A9B29E6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8943-3090-4BA1-B42B-6BB6BE3C9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FE32-D699-44FC-974A-767281DB8E7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A5AE-BE97-428B-B6F5-067C199E183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54C-406D-4A45-B3DB-41FD67024A6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9789-DD75-44A9-B476-0DDC694F35A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F5FB-C354-43D5-AAE4-0E67E0B9AC0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2C10-47C2-4B3B-812E-2746B112A2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01CE-DE69-4ED4-9F70-2F26E7D6AF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FF46-410C-420B-B84C-5F1CA6294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D322-6E11-4762-9764-8991A7CBC1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AB5F-8E2C-4303-AC06-5918C0D1B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EEB4-769A-47DF-9960-5D0CBD0358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7D68-8D4A-456A-8EF0-6704C17FEA8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E305-AE22-4796-8493-28427D2A83E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98E3-EF50-4805-8F90-A691F492E38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88C9-AAC4-47FF-BAD6-DD2C62E1CF2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BFF-DB72-45FA-B11B-6EC90A7B16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6581-220B-4F2B-A0C4-39B78CFFEED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12F4-940D-41A3-8E67-4D0425B2196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80A9-B591-495D-ACBC-D76DB36C5D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1C02-5473-494E-BDE3-B9C38057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08A-83D5-4A53-BC21-2108364BB1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E3E9B-41A3-4C9D-B5FD-2B00F9037003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441F4-0C1C-4333-83E9-8EE0BF25FD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4BED5EC-BD3E-4F73-B9F5-DA690FB36830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A628-E04A-42C9-AFC1-1B8ECFEB5727}" type="slidenum">
              <a:t>3</a:t>
            </a:fld>
          </a:p>
        </p:txBody>
      </p:sp>
    </p:spTree>
  </p:cSld>
  <p:transition>
    <p:comb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6A228-DBB4-44FB-B8C3-A2D4B19D568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9FC0CCE-BED6-4531-B039-5A779EA25CB9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9A9A3-0734-4521-BD46-3C10D76413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B6460AF-A984-4EA0-9D6C-58BC232183E9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2030F-C3B2-4E33-983E-E263335D6B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CCF539F-534B-44CC-9C90-AD067A7F0449}" type="datetime1">
              <a:rPr lang="en-US"/>
              <a:t>07/31/26</a:t>
            </a:fld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