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A22-3A9A-4661-943C-0D6652F4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4B68-B078-4856-B043-4171FD42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07552-06D1-4DF8-BAA6-DFD79F04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72226-B1D4-46E9-9D79-5D3BF46E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31E0A-D65C-445D-AEEC-278BF200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5154D-17FB-4F08-AED8-BDFD9269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9F9CA-D7A9-482A-81A6-01B721AC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1A11C-5D86-4A8C-8502-E14A8D23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C3E72-FD6C-4BEC-BCC3-EA18E8A1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FA497-61C4-434D-8AF9-502F9197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926E3-639B-4D0B-8BAF-79546E21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4BBEF6-ABE9-4A69-90EA-2C76A506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D713-5F40-4B3B-85C3-AA73B21E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6CF97E-1DF4-49C9-AFEA-18D45B28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379C08-3889-4C5E-9B27-130EFD29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0CC70E-B69C-4540-B5A8-0FCB4315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99B5A9-B08B-404E-A8C4-A207E0CD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EEFB84-7CD3-4E58-9AC0-5870A62A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A6A220-6C01-4B43-BCF0-06EEDFE3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086F1B-FE72-482A-A432-CF0FC5EF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DFF122-4A82-49E6-9238-3BAC9521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990AC3-EE09-4817-B922-8CEAAA6E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DE7502-5993-449B-B29F-184FC7E4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6B46-E37B-4595-82EF-28379404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965612-6B85-4873-AC22-4ED2086E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9CCA4-12CA-4D9F-A715-E9780220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BD23C-9835-4231-B9D9-BBE8C648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EAE72-6535-4B06-8D3A-82E861B0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2FDBF-5E2B-4D09-A390-8CE9821B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19148-4340-4AC4-AD5F-1F47039E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A2198-FD54-42D1-90AD-DD0DE045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EDB51-0E98-49DF-B521-55F51D91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66E0D-3CAC-4F3E-B2AD-64125F1D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FDDA6-525D-401F-ADA5-EDEE93A8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F78F-E1F0-451B-9DC9-CDF54A51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2B4D3-8F69-444C-A24E-9F801A7D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6F728-25B5-4BAC-A797-132EE23B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02ECD-83FE-402C-9B35-0879772D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8DB01-5E41-489C-80BB-07353C55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C737EC-5911-4656-A1FE-67E4287B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263E1-05F4-4771-9FE8-3020263D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93C4D-AF20-4696-98DF-30771125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FF969-03DD-474C-994E-B8F10708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ADBF1-5657-4CE4-B499-9361624B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90999-EF8D-45D2-9331-2F7258FF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A417-8095-44B3-804C-F1FAC06C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AC938-EAD0-4141-9571-36CE121C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C09A9-6E5E-41F2-B0FA-71AF9672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F7813-DAE3-40C6-BF4B-1867D6CD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AB359-5520-4485-A21C-C7C13698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1791B-1BFD-4281-92BA-5C12F15B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B364-34BB-4EFA-A61D-DECBA017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99A4-E2F7-451B-A7F0-74E4FD3A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37A5-8FDC-4C53-8F1C-583B3F8E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B39F-2B47-4DF5-895E-641873C8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C1A7-93D8-4EC7-8C43-67A0898B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4636-8B40-4319-AC5A-8C9A710F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5DB9-EFB8-41AB-9FF6-8FC7C28A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6090-11B1-422D-AA55-0B95A718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B2DE-4E35-4BCA-99C8-858EBB74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0D5C-7C15-4ADD-9A8A-460C504CC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0C97-5FC3-4762-A594-4AC9E454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3C500-04F0-4F22-A1A9-C4D13559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4D7D1-975F-442A-A414-A8CEAF02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C1C15-0D4C-4769-92A6-935D5B14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D252F-14B1-4AFA-A2E4-58DA6157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DD22F-7886-45F6-BBA5-EAEFE818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C56D-1FE0-40C7-AC29-47E58A88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35330-1138-44F3-893E-C517D035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ADA18-692C-43D3-BAE0-7B2584C1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877D0-A1EF-4B1B-9515-E2C8175E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45223-86AC-403B-920C-B669A6BF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48EB8-AA29-41BF-810A-217DC690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13C82-0A34-44AD-9767-AB3FFE8A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8D702-B0E7-4399-9510-C3820E42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D2788-7CC5-4728-A548-9EA8DDA9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80A33-0E83-48D2-BCFE-5A0CB07A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6B60B-6167-4F73-9CE7-54C14FCF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A5BF-5C4A-4FC8-96F3-10B84DE0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C3F8F-A335-4AE9-B77B-28165442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721F6-E357-41D6-BECF-A60634E6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982CA-EA8C-4E4B-9E3A-128B382C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A1134-2A61-45F2-B262-E299D7F8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D91DE-5685-401F-BB77-095408A3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C0A98-FF4D-41B5-8B52-FC629529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55C2E-3849-4E98-B97B-799642B8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6DB42-792C-46A5-98DA-0D7F7352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D5F83-5097-4467-99C1-502820DB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7728CA-098B-43C3-93EB-F946B5CC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0321-61C5-41C4-8A18-3ED532E2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D36071-758A-46DD-ADA5-8771C1F8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412712-4983-417C-B60C-882598C8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131540-CD00-44E4-8C87-561E7383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1C9951-E153-4524-BE04-5E76ECE0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5870A4-767E-4FBD-9937-C3D46D93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99DFEC-9B5B-4C0D-A2BD-C950B368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6FAFC5-D76F-45D4-91A9-745E88F5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028AFE-C0F4-49B6-855D-7FF0FE19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4F4CE2-E12D-4B10-81FC-361DD321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7C2843-32DB-4AC6-8E85-EA319A78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A3F4-244C-42F7-96D4-E9063EE4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4F02E9-5512-4E33-A215-33C3E75D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E0546-CBC8-412A-8721-2F3BFBE1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A6426-FC61-407B-A7EA-470225D8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3DCBE-9B9D-4D23-B865-F2341CF4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87A89-2169-47DA-BCF0-53DC55B6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4DF8B-867A-4494-A411-2E91C1BB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B8CC9-4D23-4B06-B99C-AE83B07E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AEFFA-2A50-45B8-A846-B57B068E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6638F-6FE5-44EB-9982-DFAEBE89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36A07-0C7F-44A0-9ED1-5FAD1882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900F-87F2-47E1-B6C7-17DD2545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52521-B2E4-40E4-A68A-D713E220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2BA49-8848-4BEF-AA67-F035992D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824A7-4A94-404A-8E5E-EA999943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798F3-EB21-4E2B-8FEA-1BFFC0F4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0E584-3838-4CB5-92F4-B95BFE00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84F3F-A6AD-4AB5-B511-AA52BF1D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DA458-6CFF-4EE9-9673-630DDEB4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11095-32E3-4971-B63C-EDEDEA06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9EE75-3E6C-42FB-9B43-3204CAE3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E1561-C08A-4C82-97F5-C8F13FD3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9E04-8597-44C0-9877-D16DBA56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6D089-0D95-4A42-BC06-2A1E32B5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C3030-C59A-4C29-8C18-895D2C52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9DBC5-0E7E-4E3B-B263-11A4BE20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2A520-E46D-489B-9F0C-D583B976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45F24-9B91-44C2-B0B4-84484027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E82C5-51DB-45FF-801F-80F4C87B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68D8C-9D96-44F0-8293-B83E2FBC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5C477-33EE-4782-8F95-8956FBC6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72FEE-EF70-403E-8778-6B0C1EEF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3C403-3EB2-419A-B859-263D15ED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2500-DBA2-4495-BA76-1332439A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E0B58-63A3-4A16-8F04-6E66538D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F5103-6030-429E-8CE9-6806955B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5B1D5-656F-4564-8830-FE924A6F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567B8-0E04-429B-BD29-B95F23FB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FB809-06FB-46E3-8BA4-0B5E9DD5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BFEC6-BC23-44A2-94F9-9B4A3E72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55FE6-E8CD-4C72-9E05-B7998E26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55118-A8AD-40CB-A861-E5EDA4DC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A0C9E-8205-4B40-A841-0668241C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ECF6D-3146-4229-867C-F460016C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D4FC-B0EF-496F-805F-533D12636A3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F3D4-BF2F-4A49-A2F5-0ADC2672659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FF2C-2045-4063-8197-95162386668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3821-42C2-4573-BFFE-BE46D2C92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3D31-4E52-40C8-9663-CEAD1C9D4B9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A523-C54A-4809-8C64-75CD61E0E79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9714-82DF-4E8E-9C76-5C9F2D08628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579B-CEE2-49F4-9324-9FCC67684DD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1E1A-D6FE-4497-BD67-950C54ABFE8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8DFB-CA57-4704-9F4A-A1AC588BE8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D124-BB0D-478C-8AD9-4A42C29CAA0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F645-7CD1-48E9-8071-5D033919B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701F-BE24-43F8-B570-1BE64F6E453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42B1-A342-4253-A4BD-29062A212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8229-B4DA-4236-9C86-12A8D2EEC13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CF77-D7BF-4B09-B3A1-E64878F3ED9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CAEB-3292-4777-9901-98AA3227270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2141-18F2-4744-A028-BF6B11CDC1F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6B75-BF16-45B7-ADD2-2DCA158CB1C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95FB-0DD1-4F20-A79C-156F9A3C31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8A23-30FF-423D-A717-B73DB30C013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EF33-78CF-4A7F-BA09-5CA82C53457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3F7C-2F2D-41D0-B1E2-41DE4267DFC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B266-844A-4935-9801-CFF3F67E3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A8C5-807F-40FA-A26E-D1F46ECE800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8368B-58C1-499F-B75C-C83B428913E5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47F06-F781-431E-84C0-0063BA39A6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40861206-D0B1-4A53-B172-63A8357E38FE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7BAA0-727A-4570-B2FA-9A6AA0525BAB}" type="slidenum">
              <a:t>3</a:t>
            </a:fld>
          </a:p>
        </p:txBody>
      </p:sp>
    </p:spTree>
  </p:cSld>
  <p:transition>
    <p:comb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7C4358-1E04-4FE1-B7D5-B4F4C2BBA59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3DAB2ED3-D9F3-4C93-B9B0-F8F686E6FF51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8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27CAC-05A1-4579-9A25-53B7852C8D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CEA04AC0-96C5-4427-8D5C-073544FD4522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7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8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49683-54BD-4AF8-B2CD-290983FC114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6911AEE7-02FE-4629-A0AC-B1A81D88B1C4}" type="datetime1">
              <a:rPr lang="en-US"/>
              <a:t>07/31/26</a:t>
            </a:fld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