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42822-37C7-498B-9F7E-429A1470F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8068A-B9DD-4CD5-B697-024A5E612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7C0E2-6E44-44C2-895D-B1504F878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13FD1-E94D-4444-B16A-170AC0926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2F128-D5D4-4932-B234-7C2156274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457FD-6366-49E3-912B-E5C07D2D5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714E7-CA82-470D-8AE4-08883BF28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487DD-1FCB-492A-88FC-A78633511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91C51-99CD-4157-8B0B-DD0C61B3A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43308-AA98-4D80-8DE3-175101B2D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A236C-6272-4434-B4A1-EDFAAA6F6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F5338-397A-4C72-9B35-D58DC1441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AFE05-397E-4F1D-9BC0-BF53D45217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295280"/>
            <a:ext cx="3733920" cy="685800"/>
          </a:xfrm>
          <a:prstGeom prst="cloudCallout">
            <a:avLst>
              <a:gd name="adj1" fmla="val -38902"/>
              <a:gd name="adj2" fmla="val 16087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2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537000" y="4713120"/>
            <a:ext cx="3581280" cy="48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 reci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4-11-07T16:47:07Z</dcterms:modified>
  <cp:revision>43</cp:revision>
  <dc:subject/>
  <dc:title>PowerPoint Presentation</dc:title>
</cp:coreProperties>
</file>