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3B8C-60D5-47E3-9BAC-1CBE9CD77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C956-7860-440B-941E-898616A10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D475-038E-4288-B6BA-C505416A1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7448-54C8-4B9F-A57F-D992B3E09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64FA-C16D-4D56-A3F8-430A01937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F5D9-7B26-4E63-B5A1-CDC648587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D3ED-A8B0-4CC5-A05E-7BD9960E1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80DC-37A3-4EB9-8793-0F5D52521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427D-391F-4694-B2DE-315A0E6B3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0D3E-C08E-4B5B-ABD9-30ADE89EF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CB81-BB11-4276-A539-2685AF274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1617-A808-4AE6-BA9B-DCF94F3A3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C67D3-4E06-4280-BF36-B17975EC90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700200"/>
            <a:ext cx="7391520" cy="5400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20800" y="189000"/>
            <a:ext cx="100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urce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00120" y="380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32080" y="126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lter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228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24240" y="184320"/>
            <a:ext cx="11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71800" y="388800"/>
            <a:ext cx="0" cy="52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24120" y="184320"/>
            <a:ext cx="1024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r Char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380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91520" y="18432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iew Configuration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29440" y="380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534520" y="19494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D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7695720" y="2057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00" y="730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oad/Save Data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61840" y="990720"/>
            <a:ext cx="24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00" y="117468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on Filters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1568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ipeline Brows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6200" y="1752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3244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bject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4844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640080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readshee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809880" y="5714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29400" y="640080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Y Plo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010280" y="56383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18:26:05Z</dcterms:created>
  <dc:creator> Amy Squillacote</dc:creator>
  <dc:description/>
  <dc:language>en-US</dc:language>
  <cp:lastModifiedBy> Amy Squillacote</cp:lastModifiedBy>
  <dcterms:modified xsi:type="dcterms:W3CDTF">2007-08-23T18:58:56Z</dcterms:modified>
  <cp:revision>2</cp:revision>
  <dc:subject/>
  <dc:title>Slide 1</dc:title>
</cp:coreProperties>
</file>