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CBE98-EF78-48B5-8050-243E02381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A7AD2-8290-4BA0-A7B1-57C852B08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F960C-AA1C-4496-A33C-1B158B19E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9F6BA-B5E6-4183-B448-17F804CF7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DB4CA-655A-42E6-8B96-EA99655C6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88A58-BC64-49D1-8007-54B4ABD0F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4C298-CDFA-45EE-9185-52540AEBC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B1738-DCBC-4152-B5B1-EAE70BDC8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B2A56-0980-4857-95E3-ED9F50F7C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5138D-29A9-4741-A053-F4AB96DC5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E81EC-8AD6-46E3-95A0-9B32ED59D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E87F5-1CCF-487C-9FE5-105D0E972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ED423-7F58-4003-89A4-D4881F0E5C84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flowChartPrepa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p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flowChartManualIn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flowChartManualOpe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flowChartOffpage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ff-page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flowChartPunchedCar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lowChartPunched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unched 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umming J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flowChar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flowChartCollat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l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Alternat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flowChartSor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flowChartExtra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Ex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flowChartMer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e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tore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prstGeom prst="flowChartMagnetic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equential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gnetic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rect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defined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flowChartInternal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Internal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ulti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Termin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03:09Z</dcterms:created>
  <dc:creator>tb121644</dc:creator>
  <dc:description/>
  <dc:language>en-US</dc:language>
  <cp:lastModifiedBy>tb121644</cp:lastModifiedBy>
  <dcterms:modified xsi:type="dcterms:W3CDTF">2005-05-25T11:15:34Z</dcterms:modified>
  <cp:revision>2</cp:revision>
  <dc:subject/>
  <dc:title>Slide 1</dc:title>
</cp:coreProperties>
</file>