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9AFC-BB6F-44AB-8F3D-28A0C47D8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C33E-1B5D-444A-A29B-27AF9A95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EB76E7-FE47-4C50-95BD-C2B11B32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2BEDAB-A583-45F0-B122-1AB2E346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AAEB87-EA02-4A2D-9015-55AF90AF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ED8A8C-7A29-4B3A-AE1F-F581C970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F7F89B-83F7-402E-AF90-3B9ACC28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D30C99-D9B4-4B86-AA67-64D7C790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35E303-EFA9-4E8E-B3EA-040B189A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549A4C-248F-4FA7-9CCC-DBD3FE6F9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74EC3-83E4-439D-9ACF-8A9CD0E19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6D4663-2BA7-40D6-BA81-0CACF8299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0429-4E02-4A16-8E0E-FDC2341C1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0B2119-D082-4C1A-BD50-F88476A4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149B51-52CC-4ABB-A562-7E5F2FE8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BD5954-7171-4B63-9439-4CF2C66D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91A7C8-E580-4EDA-AF3C-1DC5E5FF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7113B2-C80C-4655-8001-EDAEFA46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007AEB-BA4A-4E34-9303-3CF857A7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5BCF17-B63C-4E28-AA59-9EA146E6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7F17F2-7730-425E-8CBA-C3C646CB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E019FB-FC49-424E-9727-9AA6E67B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DEF04C-75AD-4612-9A15-C2BFF91B4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567B-DBE5-448F-8DE2-C500C5F58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9EBACC-C9B5-4EE8-94CB-0BF35B0CE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1ECB6A-075F-4B9C-AB1E-F8C2933E4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425A7-3BA3-4227-9EF8-5DA1AA720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D4925-0888-4AF0-A26E-56A1EC73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90639-80F8-4426-AF5C-47316AA0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E364EC-0E7D-41AC-97EB-14B2C14D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9B7CE0-AFFA-4CF2-AC83-998CB60D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8C85B-F334-49A6-B16D-BE99C4AE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7786C-C91F-439C-8885-1334B8A1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DBE47-966A-4C70-AB59-B12895DF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8B47-A9D6-4DD9-9E6C-0A283E447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4BC67-22F5-4F81-8FAE-90F0352A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F60BE-4EA3-468A-B2CB-52FA73627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2C2F4-EC9B-43A1-A92F-255FFD520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2AC128-695C-4296-BB01-57234FA1C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6C0FBE-BAAD-4D93-866A-E40C6E2F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5A6A78-5BC9-4A39-A211-094F5EE9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A7EF5F-92D9-485C-BC8F-456B8DA1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83D07B-79F5-4714-8C8E-6612DAF6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0FE277-EF7C-4E1A-A4F4-DA01F49C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D24FE7-B771-4AEC-A9D5-01E617DF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1103-04DB-4A72-96DA-52B3A8B1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DC17D7-2245-4958-93DD-EC0DB0FE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309082-0D25-48E6-9531-E7852D7D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A968E4-FFB6-435D-92BD-C811F0B8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CF2747-99EE-4775-9F19-7F50FC074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B7A111-2A53-4024-8783-13C92319B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005B-BFD8-40BF-B1EC-CF6F3AE1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DF27-41E4-4B23-A563-36DEC6F4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5072-0049-495C-A393-279F15FD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913C-F3F8-44EB-A9EA-368E3C8E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A48A-0457-4968-8DE4-F4279B7B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972A-BBBE-4C77-9CF1-B00AF977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B631-0527-4ACA-A40F-8D93C79B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B339-A38F-4058-B594-AF825FB7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643C-07DA-41B7-B35D-FF17AAB2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9E8F-C23D-4FBF-9ED4-3D1E7B5F8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B5ED-3831-47AF-ABC3-E9375B89F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C5EEF-149F-4256-965A-061C095E7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4E7FC-7B0D-4F4D-A1DC-91951C8F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78394-278B-40A6-91FB-330B3281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3C910-2080-4AA3-A427-43F0E1A7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FB029-53C4-4EC8-8A07-D28D2C24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751E-CD32-4041-99A1-C1F1898F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AED0F-99B0-4A21-9AC6-FB8E5A67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E06F4-B9BB-41D0-BCCD-5945B651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2E350-101C-4750-8CAC-B8B6946F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469F2-FA19-4816-BA70-32846D49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FFE36-0FD5-47A4-829C-9F44BCFE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75B92-54B1-4918-95AB-B9E062D38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EFA7C-F4BF-4695-B798-2AE39F7AB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6F3A8-0FBF-410C-9A88-97F99FAEC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2D522-C28A-4D03-810E-A0D61A5F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F3827-E7CF-4D3E-9416-0356F134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8998-7709-46C8-BCED-B6ABA2683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C98CC-4508-4BBD-A029-3C376DE3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69DCB-42CA-459C-9F58-42143F01E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CDFA0-08BD-4DC7-8986-C85DEB02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0EDFB-B8FF-4FCA-8C57-44738948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C0A50-8212-4960-A854-DBAE4617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5F6CD-422A-4E4D-9B1E-E939CE2A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4E839-38FC-4BD3-9BFF-0F37DB27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30FB3-8644-4605-A265-2F7C199EC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448CE-35E5-4D1B-98F3-D00D495DC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C6F86C-C0E7-4876-BC00-C57858E7D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1D7C-2A2E-4BB0-8793-D4DA4060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3DA995-E6A1-42E4-A99B-CCDC6905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C651A7-173D-480B-B180-F050EC59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72D69A-6648-4F59-BEDA-57E738DF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59A70C-31CA-4166-B84B-E94F2ABA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A5323B-2506-461B-A2DB-6CC479BD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DC3193-0C70-453B-BA9D-B0B1F7C8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DB407C-840B-4A2A-ABFC-0C94ABE5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BDC4B7-A423-45A0-AD9E-556D80AE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1AFFAA-E3C9-4130-9153-4FA1974A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7A4B22-27BE-4D03-8699-933635AC7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4B1F-C34F-4078-A452-495693DB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93B055-FA73-424A-8CAE-C6BCABBD4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12481-1271-4D8E-B937-98E9735D7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7D0D3-6B3D-405D-8137-46F5367F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12D64-6D92-4FF7-8FE4-24738DB6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9C1CB-9D81-453C-A8BB-085A2701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A3E6D-1AA2-4487-9E94-C96CA056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46811-FDD3-4FA0-8831-4D7E2423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B830C-6E5C-4CCD-BBF8-06F731F6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0B64E-9010-4000-868C-75DE1F77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AC868-FF93-43C8-B083-456C6CEA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6DCC-FC35-428C-818D-1A13416E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2D3FE-9EC7-4BB6-8C93-C10440D8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9CC69-3706-42A3-9F7D-B3AFF43D8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827FE-0A23-405B-8C98-3FDA5FAB6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3A26D-1992-403D-9ADB-37626213F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7F94B-B210-4533-9367-1CADE118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95201-CA7B-4652-8FC3-CAB72857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96D8C-2F6D-407B-9A6B-9DFE19B0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D4132-88AD-4057-A9C1-1CD9E56D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7F42F-7E72-4C87-A299-442A1350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A0E8D-21F7-4232-B915-E9F3B801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642D-1956-45C9-A800-5C9877B9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6FC87-8F42-49A3-AF83-214CE46A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2D17C-C393-42F0-AACB-4AC75DAF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FA3E3-CE1A-4D25-8FC8-9080E965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FFCFD-34F5-41A9-B772-B15F68039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2E8EB-DE77-40D1-A2C5-B71CDE07B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75D54-55D1-41CD-8539-DE40A68D5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072CD-9DF3-4A62-8CA3-12371538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BCB24-49D5-4EFA-8E84-F3D98608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F69AF-7BFA-4E92-A1D8-7239AE48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A5493-9AD6-423B-A954-324128F3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13F3-A571-4E74-9A36-2CEBE05A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FE3F0-A9E2-45C5-A2A8-FC92FD34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693ED-457B-4BA2-BA18-A0B5776E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4EA5E-EAC4-4E56-A5B1-7663706F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D7757-81C2-44D8-A6F1-BFB223BF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87B61-362B-4FD3-897B-32B4D2CC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B9802-BCE8-41AA-87FB-C7C72DCED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B2EBB-9146-4FC3-9504-6174A12A1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E8D018-A6F5-4C3E-9679-497189D12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F31EC3-2B8F-4AE2-A96B-26CF30E6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836312-256F-4798-9549-294B996E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B3AB-0F7B-4096-9BD5-115C7750037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07FB-DA30-4A38-8AAD-5F0899EF603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8325-65AE-4D3A-9969-9C6270D2240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0CC2-AB48-4EA8-BDF7-CB16670B6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DDAF-ACD8-40B7-9C0D-83C93EF342B8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E07B-EFAA-44EF-B113-351276FF7C9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F21E-4639-444A-9F20-5021F530ED2F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1E66-E8D9-48B0-B961-61E7D88CA3A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B7E3-E2C4-4700-8B94-FA81CBEF58A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9A15-D685-4325-86B7-9375C5F0FCD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CE7F-0E6B-4DEF-BD08-7E2970A29EB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5DB0-85D8-457E-ABC6-FE387473F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A5BD-55D2-4A5C-B67A-8527DB37ED8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9A21-937A-4181-8ED3-A1237A7CF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B4A0-6C95-4269-A299-C4E1CF760E3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1E44-1176-4F5E-8B13-14112E14751C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65C9-F1BE-4E79-B6AE-F8AECFA74F12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2D6C-97A6-4806-B9E3-65AF863F298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2E8C-39FA-429D-8527-EDBADE08B502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20DF-7001-4635-96E7-6CDD159BF19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4865-8763-4BDF-A9DB-47602464D00A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1EB4-A2D5-4FEB-B573-8C250FED482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50C5-FAF8-48DD-905F-69C390277A1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DEBD-7842-418C-B258-20DB02473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7425-B902-4009-816B-13038146816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14799A-A4A7-4FA3-A338-D652FEB903A5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83A2B-C72E-4494-9BF6-4675CDAABB2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40D11D1C-3596-46C0-8B05-07ACA1AB78C6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5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92CFE-19A4-4847-ADF9-931D5716C311}" type="slidenum">
              <a:t>3</a:t>
            </a:fld>
          </a:p>
        </p:txBody>
      </p:sp>
    </p:spTree>
  </p:cSld>
  <p:transition>
    <p:comb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86D0F9-7C64-4974-B225-DAC725C58FB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2015A293-A856-43FC-B587-A75191D88314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DFE66A-6FFC-41FB-91ED-21B69CA47B5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3840802F-C5A0-41FA-BBA5-F64B14B1E0C5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0"/>
                            </p:stCondLst>
                            <p:childTnLst>
                              <p:par>
                                <p:cTn id="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000"/>
                            </p:stCondLst>
                            <p:childTnLst>
                              <p:par>
                                <p:cTn id="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800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9000"/>
                            </p:stCondLst>
                            <p:childTnLst>
                              <p:par>
                                <p:cTn id="3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3D0B08-B5DA-4F65-93C4-9DD6097B6F7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8CFB7D4C-3317-4865-9A97-341EA839481F}" type="datetime1">
              <a:rPr lang="en-US"/>
              <a:t>07/30/26</a:t>
            </a:fld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