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717803"/>
        <c:axId val="24443853"/>
      </c:barChart>
      <c:catAx>
        <c:axId val="757178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443853"/>
        <c:crosses val="autoZero"/>
        <c:auto val="1"/>
        <c:lblAlgn val="ctr"/>
        <c:lblOffset val="100"/>
        <c:noMultiLvlLbl val="0"/>
      </c:catAx>
      <c:valAx>
        <c:axId val="244438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7178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9CC4-739A-45CE-877F-ABDB18461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C02B-7524-41AD-A758-DD34FE00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27AF-527F-4B57-8E0C-8DEED5A24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7F12-E6B0-4733-87D4-BB5861F29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E464-7CB3-428F-A658-8D013FBA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E063-6331-45F1-B0D0-E4080CBD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AE53-39E4-4446-9E4A-3C30A3D3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6A7C-DA59-456C-BB7A-56F138B1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8FAA-6399-45FD-AE78-14BDCA71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BF98-2AD2-465B-B6DF-8D150DF8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C9A0-D5BE-4FA0-9279-E88DFB31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6906-E3B9-4C39-AC80-96256D50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6CC4B5-A7BA-4FC5-B52F-F8F35F0E84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