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78307"/>
        <c:axId val="20302505"/>
      </c:barChart>
      <c:catAx>
        <c:axId val="81778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02505"/>
        <c:crosses val="autoZero"/>
        <c:auto val="1"/>
        <c:lblAlgn val="ctr"/>
        <c:lblOffset val="100"/>
        <c:noMultiLvlLbl val="0"/>
      </c:catAx>
      <c:valAx>
        <c:axId val="20302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78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00B-0E7D-4EE7-9916-C92F9918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B31-86E9-4438-B605-B2FD4A41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644-C3DE-48FB-8DE5-ED2B6DC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A42-2CBC-4F7E-A7BB-7C1DF0E9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61D-71E1-40DA-8425-6BDA54F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C5D-92F7-4FEC-933A-2CBBFE7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B4B-DA2E-493E-B101-CCE4915E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5FC-8B6B-4963-8233-016B00F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C6F-339E-4839-9B12-0F6DB3A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964-F3E2-4102-BFA1-95A7270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E92-05A3-4329-B8C4-0E7E99A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617-C192-43F7-B442-5F80686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178EF-A017-4FE9-8ABD-DB074F28FD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