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26933"/>
        <c:axId val="34989316"/>
      </c:barChart>
      <c:catAx>
        <c:axId val="17526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9316"/>
        <c:crosses val="autoZero"/>
        <c:auto val="1"/>
        <c:lblAlgn val="ctr"/>
        <c:lblOffset val="100"/>
        <c:noMultiLvlLbl val="0"/>
      </c:catAx>
      <c:valAx>
        <c:axId val="34989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26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F6E-A6CC-4C86-A3A0-31AC24CF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FA3-18EE-4094-B9CD-F1A2020B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29E-E25A-4F42-AC86-8E35CC38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02D-470C-4168-8BB7-6904EA8A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920-7CA2-41C0-872A-72080745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73B-BC06-411C-98CC-E3B0557B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CAC-443A-4586-980E-D995E30A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3EE-D6AB-4AFD-BC9D-861613B3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06F-BC68-4599-955A-1BE4CBF2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140-8D85-4939-A717-3288F3A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578-C6F3-4D61-8982-8A89F76D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106-686E-47F7-B60C-0F2F3D60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5BC37-FC40-42C8-ABBF-E834F4F4C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