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34567"/>
        <c:axId val="25707250"/>
      </c:barChart>
      <c:catAx>
        <c:axId val="18534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07250"/>
        <c:crosses val="autoZero"/>
        <c:auto val="1"/>
        <c:lblAlgn val="ctr"/>
        <c:lblOffset val="100"/>
        <c:noMultiLvlLbl val="0"/>
      </c:catAx>
      <c:valAx>
        <c:axId val="257072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34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3D8-3DBD-4C6E-9488-4B70830C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B54C-3D4B-4333-BAE9-23FFFDD8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6F9-8D8A-45FF-8F84-7DDC8641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4BD-EF3F-4B72-8FF0-77C7BA82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C6D-FA4F-4794-BE9F-644B5973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A28-9C81-4A94-9FE5-ABA79935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6DC-B9C7-47ED-87DC-780A40D0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66B-EE0C-4AAE-91ED-D9ECD4CA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1A2-1A48-44D6-85D2-DF63BAA6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88D-0694-4832-9401-3939F5E6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9D0-372F-4D87-9AF3-42712405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81A-150F-4639-A7A4-4C03C8C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875BB-B63F-4D60-BB59-36AC5017C6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