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56390"/>
        <c:axId val="11174236"/>
      </c:barChart>
      <c:catAx>
        <c:axId val="88256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74236"/>
        <c:crosses val="autoZero"/>
        <c:auto val="1"/>
        <c:lblAlgn val="ctr"/>
        <c:lblOffset val="100"/>
        <c:noMultiLvlLbl val="0"/>
      </c:catAx>
      <c:valAx>
        <c:axId val="11174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56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C50-C3D2-4DA3-8845-83C367A3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CA8-1D24-4E01-93B0-3F82103F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FBF-CE6D-4476-BA96-262D9383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BBA-2D99-4BFB-80E1-AF9A0118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474-14A5-43A8-901E-1889AB5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351-15D2-402D-B38A-1BF3C71F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B5F-3146-4D47-A431-692B4491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B88-AE71-47FB-9517-2F4B6E5A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141-4708-4912-BEC3-12171C4E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0AD-FB72-4503-882B-CC57E57A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029C-6457-4F44-A4B2-A7BE733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DD1-1305-48BB-8091-38F4C48A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68B65-2D2B-4855-9A02-1CC246F068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