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22122"/>
        <c:axId val="65922437"/>
      </c:barChart>
      <c:catAx>
        <c:axId val="97322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2437"/>
        <c:crosses val="autoZero"/>
        <c:auto val="1"/>
        <c:lblAlgn val="ctr"/>
        <c:lblOffset val="100"/>
        <c:noMultiLvlLbl val="0"/>
      </c:catAx>
      <c:valAx>
        <c:axId val="65922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22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A2B-A992-432A-9DDA-ED397142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98F-FFA5-4F03-BEDD-CE267A38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693-6474-485B-A245-04F97C01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926-1A25-4C14-87FA-BD9A7AB3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B07-E0B7-4F1E-9EAE-283E9224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133-4C06-409D-A939-2384A4B1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6A0-4C0A-4A7C-87A9-00E5FFBE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7CA-9630-47BE-B8EA-ACB5AE91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EE2-37BD-4892-A5F7-05B0166E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6BA-42FA-473A-8B68-7C4DB1C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FD5-BAF0-44DC-B594-D51F8BD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2C6-3191-4916-89B4-E586549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338AD-990D-4F6C-B33A-CB883A0D9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