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45492"/>
        <c:axId val="67560677"/>
      </c:barChart>
      <c:catAx>
        <c:axId val="32545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60677"/>
        <c:crosses val="autoZero"/>
        <c:auto val="1"/>
        <c:lblAlgn val="ctr"/>
        <c:lblOffset val="100"/>
        <c:noMultiLvlLbl val="0"/>
      </c:catAx>
      <c:valAx>
        <c:axId val="67560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45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D63-835C-4F99-84E5-2A5A5711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CCF-4E70-4933-B666-7DB786E5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FA1-501F-4CA7-BAD1-547D0218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218-498F-4510-A909-FC235E62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B77-12E1-498D-B965-14D3BFBA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348-6355-4345-9DA5-91383480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579-6576-4F27-8510-F108FF4F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554-2ABB-4498-B422-F7030981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82A-E9D7-477E-9F36-5B9CBE9B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D69-58FF-406E-8FD3-C49B878B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B34-7580-43C8-9D70-1E11EFB3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23C-D22F-414E-8C25-80140B25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735A1-A461-4422-988E-CEC63326D1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