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95193"/>
        <c:axId val="68684088"/>
      </c:barChart>
      <c:catAx>
        <c:axId val="94895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84088"/>
        <c:crosses val="autoZero"/>
        <c:auto val="1"/>
        <c:lblAlgn val="ctr"/>
        <c:lblOffset val="100"/>
        <c:noMultiLvlLbl val="0"/>
      </c:catAx>
      <c:valAx>
        <c:axId val="68684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95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CBC-9739-494C-B3DB-222952BC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1AF-84D6-4FC3-8C15-243D0A37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C42-AB40-4350-8399-47423EFA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8EF-74E3-4393-90C5-F7858DEC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504-61E1-4D35-9878-B3F50C18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D73-0CEB-49CA-BFB2-BFB108B1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434-DAF8-461C-80C3-5B117CFC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E64-E66E-454F-9DE7-B422747D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21C-2B14-4934-A95B-C01550BD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2B5-3E1D-46DD-A932-E1831846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A5B-C074-4154-8748-EEF0B131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9C8-80A4-4836-87EE-A58C9D57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5FC1D-101C-489C-A1CF-03A559A626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