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24236"/>
        <c:axId val="93774096"/>
      </c:barChart>
      <c:catAx>
        <c:axId val="20124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74096"/>
        <c:crosses val="autoZero"/>
        <c:auto val="1"/>
        <c:lblAlgn val="ctr"/>
        <c:lblOffset val="100"/>
        <c:noMultiLvlLbl val="0"/>
      </c:catAx>
      <c:valAx>
        <c:axId val="93774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24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E5A-439B-42C7-83C3-0CEA2B67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F0E-F3B1-48E6-A1A1-BC422079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CA9-9BD7-4BC2-87F9-22A59307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075-97A6-4972-BFC5-D6F3D374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200-39FB-4BA9-B0B6-5AA12B13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BA9-CD73-4AF1-A209-676B9F0C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C4F-E7A8-43A1-8378-F1B64302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72A-D516-4CE2-90C0-1AACE0D2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51E-3414-48EE-9252-EA2E1F2E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DF0D-4E9B-435C-B3A7-3E04D85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BBF-EA09-488B-BEDF-FB3AC93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F76-2A6F-46DF-AF98-3597B92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C07FA-C5AA-4946-B87B-3BCAC6550E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