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10127"/>
        <c:axId val="71069143"/>
      </c:barChart>
      <c:catAx>
        <c:axId val="564101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69143"/>
        <c:crosses val="autoZero"/>
        <c:auto val="1"/>
        <c:lblAlgn val="ctr"/>
        <c:lblOffset val="100"/>
        <c:noMultiLvlLbl val="0"/>
      </c:catAx>
      <c:valAx>
        <c:axId val="710691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101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AB9-C07D-48F1-B8F1-7626A0D4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BD8A-D888-4FDA-A263-21BF7CE7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1580-1140-468D-B66C-B00E4FED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478-5419-4B64-AB25-383668CB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FCF-8C12-42CA-AC5E-12B7579A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BB9-B7B3-4229-B412-EFEC5AFB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54D5-BDF3-4F1A-817F-AD9CF47B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7CA-C5D1-4667-B51D-3D3E703B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C4B0-3F81-41AA-842F-EBA5734D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4580-F59D-4E0E-8B0F-AE125395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231-9047-4B0B-B7A2-5C3FEDA7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8AD-E0A2-477A-B39A-AB0E2A61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21A04-1E2A-4CFE-9EA0-DF57BB2033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