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77619"/>
        <c:axId val="86724920"/>
      </c:barChart>
      <c:catAx>
        <c:axId val="221776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24920"/>
        <c:crosses val="autoZero"/>
        <c:auto val="1"/>
        <c:lblAlgn val="ctr"/>
        <c:lblOffset val="100"/>
        <c:noMultiLvlLbl val="0"/>
      </c:catAx>
      <c:valAx>
        <c:axId val="867249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776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9F1-2340-4025-A711-57291F57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019-3E93-4AB8-B5EB-E2F38407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EBE1-424A-4C97-9917-90AED60B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FEB-3770-4690-B8BF-6E961A47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593-58F3-44F6-B7A7-8527E5A9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8BA-B24C-461D-BF8E-62099BBC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B0F2-5ED6-4E4E-970E-A2C47D70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CF14-C055-4A30-85BD-E043431A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DCA-20A4-4C7B-B912-94F2A5B3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F61-D5FF-48DB-BC10-92DCD04B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5179-0F16-4078-B7E8-11D31B83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8C9-B349-44BF-9A62-086A7A5A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D946D-145D-47C5-A096-C4531A1047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