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8161914-A447-421A-AAF6-54D5A1ABBBA8}"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3BBAC0E-721F-440E-9D3F-87BA5BEA732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4D8A6F9-7ED4-42EF-9A14-50AECE5E51A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CF0B155-75CE-4EA7-A3F3-2F8983EBB6D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416A1BF-0427-4E10-82EF-BEB7664F5F8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AA2B2B8-45AB-428C-AD93-43AA5D823BD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E275B32-1F55-4941-871A-3D39FC78243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5E710A7-69BA-49E2-A8FC-288D5640E81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C5772EA-A162-40B1-ABEE-6201611CCE1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69491F8-AEF7-42C6-9841-82D92A50A9E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85B9D91-AB5C-4ED4-A65F-9057543F5BD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3CF441E-EAEC-410E-8A57-0958FC5D0A7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7EBB427-C8B1-4616-890D-AA195C1AD5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DC73D9A-CE7A-45AA-8A4A-8CA3F768B57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62A3C30-E505-4CD6-8069-36D6DEEB696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9EAB1DA-65C5-4CFD-87B4-C9F6C4C1FE2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CE76B9F-B34C-4285-ADE7-AC31EC72CE8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7A77CD4-AD03-4C28-A511-C7E89BACBA6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FF9A251-1FCD-402E-98CB-5CAADFAD365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541C1FF-4AA0-4840-AB7B-05ED0E0FA0B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A586087-3FAD-453A-94A8-3BEA0A6C74A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F533DB4-5AEE-4C85-B35B-74350D8DF15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8C8603B-3DCD-4BF3-ACB7-EE840C5027E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5692BD5-07D8-4122-AF6B-C0C603260D5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6E6CA2D-3FE8-4C89-86FA-C8CCD4B0BC8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701EE8E-AEFC-4B19-A04D-5F54469CA38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7463D1A-CBE5-48EF-9ED1-5AA957353FE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BE294EB-62D4-43F3-9F7D-AE32D595FE2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AF75B63-2393-46A4-A177-3D1CCDEBDB2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EB747B2-4189-4C55-9CC4-30020F426FE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B0B9D39-0CFD-41BA-B4C6-6D140BFDD4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A5FF4EF-3FD2-43E9-9BF5-09A74DC3CDE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89DD1A7-4799-4065-AE4A-51FEC5AFE66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BBD281-1F51-4C0A-8369-907F942AEC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E4E61C6-F7C1-4D7E-A8D1-5789F0C353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98CCC-C6E7-46F5-972C-C966A59C470B}"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880C4-7837-43AC-837A-2B97168E2B75}"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A8CB89B5-A519-40CA-8240-B66663A7918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CBEE0AD-CE83-4C57-A3D7-23841EB34F36}"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2BBE481-3EE7-442E-ABC8-C8F5E6765157}"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9898E6C-596D-4982-9C28-991BCBD6A5DB}"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5543AC2-86F0-412A-A77F-E1446880F3E9}"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468B64D-07BB-4C43-8C57-64B2733F2A10}"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FBC5EA5-F684-4BCB-AE02-211788FF7A45}"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50C2B94-F0D0-4B65-9929-111EFB315EFA}"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211E07D-0263-4E79-852E-7F5F5D148556}"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206805F-A6F8-46F6-94A3-812D019228B5}"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B724229-4541-4A07-A231-65004BFDB8AB}"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A9E3C22-F447-4046-9265-510A0D09626D}"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CCDEE1D-E4C3-4BB0-B69B-F4F09C11B1E1}"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FD8A9C9-FBB4-4AA9-A63F-30CEE296559E}"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71E7BDE-9B40-4575-A1AD-927572B35FC6}"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E56E0AE-2318-4F13-9654-C4856A89DC2F}"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09C6F82-2394-4755-8A91-ED38ABE9787E}"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3A1E658-E1FE-4AB2-95A4-80543D3BFBA7}"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B3196D61-D194-48CC-9C6F-85582925EE7B}"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D62BCCD5-5656-44A9-BF5C-53C16A99C77D}"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0CF23B8-65CE-4FA1-8F6F-7271C5BD0E7D}"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99DBAC1-9EBB-4D40-ACB5-CD7648BD9B5D}"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D519A2B-AED6-44FB-9895-A81F632EE93A}"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7C98A49-79EA-4CC2-9A3B-CCCDEDD38D46}"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9B13E58-8A2C-45F6-8EC9-D3444FA249F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D40111A-F3B8-4A23-A3EA-225F9231C360}"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4C11044-46A0-4C68-BB47-D762187F1AD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982432B-9575-42D9-BBF5-37F9344FE261}"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7C6C506A-C11D-4221-922C-82699CE56D8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7633D06-956E-42D9-891C-35FC9238FF0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095D8D6-35DB-453C-97A5-3E5EDA91F6E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46A68BD-809F-497D-B2A5-6E016B069BCA}"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92AB36F-CFD6-4E0D-B13B-D006236FC42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A2F114C-4A5B-4F03-9E12-D23E5266C4C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D888FFA-A1D7-4AAF-AEDD-032FD516006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C6AF656-FBD1-46AA-8106-351CE18C52D1}"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C91173B-8077-4D7A-8E8E-8C5E9CF95A6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F2E26C3-531D-44D1-A349-71829F4DD58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319ACB0-2E66-473A-8A34-B3D80DCFC7F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39F8C6E-8710-4D65-9ADE-A4CAFA3BD633}"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98A512D-D629-46B6-96D2-38E26FAFBB5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4A334AC-84BA-4793-A97E-F34FA9AD095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BB4EBF7-690C-4519-A165-7D2827031E44}"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EA58026-BED1-4D64-BEED-DB51B2F2322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837CDCE-BD19-4817-A101-00185ED494B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BBC419B-9EE4-455C-BA42-AA2A625C12A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BE950BA-FC21-4540-A30D-7CD84C99B3E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1E27802-A4FC-4745-886B-CF01F8739941}"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16A5954-EB5C-47DD-B2F3-45BE2D32716B}"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C4A92B8-3455-4CA4-9A9D-25A6D66898B0}"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67356C7-6625-4F73-B215-036A2E405BFB}"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7B558F9-9804-44DE-A321-F756E198630E}"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491446E-DD6C-4DC8-9123-41B9F6534E59}"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04081C9-D341-46F0-A1E4-B2F59349E1C6}"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2A6E943-0BAB-4B12-A481-492AB2AEECAF}"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371D569-CBF2-40B6-9849-59E738A432A0}"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B246D09-1D12-4ADE-9477-0B2494666BFF}"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F2BA89E-3ADB-4627-91AD-15BC96FA14F8}"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3A5FDE3-F05F-48E5-9206-08C6C0F08337}"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67072A9-5083-4D5A-91C0-E30EEC7BDF06}"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0C9CDFB-D343-44AF-A549-E1100EDF02E0}"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FB90B4A-FB43-48F1-BFFF-8F97BD1F0730}"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8344C2B-1D62-4281-ACA1-7D665C15F041}"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ADC2319-9E0A-43FF-B9A9-306BFD0000B3}"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4C92ED9-2817-464C-B336-1E3D205C3F2E}"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578FBA6-3EC7-404E-9C82-5EFA09F1D057}"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588AA94-0C4B-485B-BC74-AF57D08FA212}"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7DDF7F5-7FD0-4E09-B6C7-4949E8346EE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146648C-B3C0-4605-88F0-412B52FBBF73}"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54EFCE1-9E82-4E5A-A4D0-0A1119DC99B1}"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9BEE457-C3DD-4C4C-A098-7E5D44BFFDBB}"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509D865-AB62-4AC5-A686-D9A7970819E3}"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CAA1D9D-848C-4251-951B-1E738DAE9292}"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8E91673-3E37-40F8-9FB7-B7AB1622841D}"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812C11D-732A-4185-9B3D-96F03EC55E21}"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BAC1BE0-88EA-4405-A830-91CF91D5712F}"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9D77A44-8901-4ED4-AD39-6EBD69FCC708}"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C04CD25-A1F4-43A2-8254-92BC43C7B6B6}"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8025975-7E04-46AE-B9C8-12B0419C2F3A}"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1CA9A2D-0362-4A5F-A994-DC37E3F9BB81}"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BA353DC-7683-494E-9F24-443F06674BB3}"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CE8A326-E81C-4B53-AFB8-F9AD88AE44CB}"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C48737C-1017-4543-8770-D8785ECF692A}"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2531DD0-0D34-46BC-8F76-3B81298DE38B}"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3E99380-309C-430B-86FC-5D66206D1949}"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13F7B22-570A-4DC6-908F-FD192B0D304C}"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7417F6B-0B78-4B9D-B91A-1E1BA59814BE}"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C911394-9AEC-44DD-9421-7B47CC4F8B08}"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AAA6480-4545-43CA-AD94-E021A41423B2}"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7964675-C0AE-40AE-9C59-685817188060}"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CC60792-5A2A-4990-BCCE-824F026D2CF3}"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F35073A-6E74-45B8-9CD5-74BCFDE6E3F0}"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1277421-0E88-40FA-B0DD-50339D5317E2}"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DCF1259-6384-47E0-837A-7AA7FFFF9EFB}"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9AC3CD6-3077-4FF5-85B9-0FF8EBC8BA23}"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BB730D6-5E35-4AA2-8A91-A3CBD783CAA7}"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8668DC8-4F41-4981-9450-305ECE75AA4D}"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81D86D44-A60F-4ADA-90E3-2088DA45BAB4}"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10FDCEA-9F82-4561-A35B-3C341A3AA76E}"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0642EA9-7171-4AB4-806F-36235B5D0037}"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EEDD616-26FC-4C72-B275-3AA1BA9EB523}"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8181DAB-3DF0-408C-9D53-7CC169BB3068}"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044C9CE-06FD-4E51-ABC8-6C2437B33DCB}"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CEA3264-77B6-4E7E-B2F6-3F0D8E24080C}"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76EDB8E-4B42-4863-A2C6-ED7AD1BE2E55}"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44190E4-9C32-42D4-9FB1-68358D295564}"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5B6714A-3780-482C-8F41-CFD3ABCD633C}"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950E744-9395-4F03-85A6-AD90AAF32289}"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0BBB9BD-87D9-4797-8B78-FC0BA47C2F94}"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2D81E930-CA9F-4B66-B3D4-D31A03375894}"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270BE4B-CE20-4AA1-B1C9-CD96B3A90359}"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4ACDB4C-5FAB-465F-B1A6-55F3566B9874}"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C9EEF8A-5C33-4A1F-943C-CA14DE048347}"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8BE9580-A58C-44A3-8270-0B1956A736BE}"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0AE46F5-72BA-4415-9AAB-1D6739DE657E}"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5EF4FF3-34EB-4D1C-BD52-D7F766B27CCA}"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8D3831C-8313-42D0-A0FA-9B8919C6B1C9}"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5323A74-5618-41FC-8CF3-AE079ED4CC09}"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DEC13D6-B308-4E5A-992C-9AA9C76E8BEC}"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FC0F02D-2319-4B3E-B08C-CA9AFB3DBF49}"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F0A228C-3B67-4E67-AC5D-A74D99A8BD56}"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