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750903"/>
        <c:axId val="23045911"/>
      </c:barChart>
      <c:catAx>
        <c:axId val="30750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45911"/>
        <c:crosses val="autoZero"/>
        <c:auto val="1"/>
        <c:lblAlgn val="ctr"/>
        <c:lblOffset val="100"/>
        <c:noMultiLvlLbl val="0"/>
      </c:catAx>
      <c:valAx>
        <c:axId val="230459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50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D0F-1661-4999-A2CE-25D3EE40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D86D-6C77-4F49-A773-A5D20644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8625-1A1A-4FC0-91B1-BAC83425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55C-789F-4401-905E-1D7F081D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21C-BCDA-4F01-B8D9-85209373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069-F499-47CD-9B7C-B9FEABF4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A2D-FB02-4535-A626-E94BAB08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A363-B408-42CE-A903-C3DB9826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338-3731-4465-8F3E-D6BF4E2E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12A4-FC41-4521-A0FB-8D489827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D56A-6CDA-467B-A5D5-CB738024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4E8-F1FD-4CEC-8974-F3664428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CC9F0-6226-45C2-87D6-97884312C3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