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29146"/>
        <c:axId val="62130354"/>
      </c:barChart>
      <c:catAx>
        <c:axId val="71629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30354"/>
        <c:crosses val="autoZero"/>
        <c:auto val="1"/>
        <c:lblAlgn val="ctr"/>
        <c:lblOffset val="100"/>
        <c:noMultiLvlLbl val="0"/>
      </c:catAx>
      <c:valAx>
        <c:axId val="62130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29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C94-7D8E-4863-95E2-4C2D903D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000-4F63-46A7-97D2-AAF3E5F7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F0C-9F57-4A1C-ADA6-A5673055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FC1-625E-42EF-A0A5-8251F973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408-9245-44DB-9936-56538602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65FA-F115-455B-8DD9-86220CA8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F2CC-5E31-4818-A8DF-94B96A25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03E-1595-4EDD-B5D9-FE3D68B5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FAF-A513-41C0-A283-77DBF7AF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171-9035-4ACB-8F65-46F8CFAF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255-A464-4160-ADCC-32F84189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374-932C-4C9E-885A-334226AB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9F26C-94E3-4C3B-A253-64E2ECBA4D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