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31967"/>
        <c:axId val="2305453"/>
      </c:barChart>
      <c:catAx>
        <c:axId val="38831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453"/>
        <c:crosses val="autoZero"/>
        <c:auto val="1"/>
        <c:lblAlgn val="ctr"/>
        <c:lblOffset val="100"/>
        <c:noMultiLvlLbl val="0"/>
      </c:catAx>
      <c:valAx>
        <c:axId val="2305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31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D90-88FF-4F4E-AA91-DEDDBDE7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087-3330-4358-A0D8-C250499E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856-B7B7-423D-8227-1725C63D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2B5-4FD0-41B8-BB4C-A7FFA493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32C-060F-419B-A382-07629183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466-9BDE-40DF-80A1-A15CC1D1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607-9D3C-4A97-AFD8-B6D709B6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39F-2D0C-4A87-A1A2-8E175F77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9A3-3E21-478C-B994-4E1CFF2D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692-9CA7-4B64-B7D2-3B938BAC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DBC-D59D-4887-AE40-1EEE354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A72-04D6-45A5-B1DF-B652B8F8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B92F1-0FBB-4B33-AFD0-6BE8E54200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