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14626"/>
        <c:axId val="48941913"/>
      </c:barChart>
      <c:catAx>
        <c:axId val="96314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41913"/>
        <c:crosses val="autoZero"/>
        <c:auto val="1"/>
        <c:lblAlgn val="ctr"/>
        <c:lblOffset val="100"/>
        <c:noMultiLvlLbl val="0"/>
      </c:catAx>
      <c:valAx>
        <c:axId val="48941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4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64C-C362-4F01-BDF4-43190B47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676-6170-4B89-8279-B2214EB3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C31-E515-4F46-A5E2-BDFD8300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06A-FFF7-4975-A159-5B2BC05B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3DD-3A04-40F4-BDDE-1AD81D5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FA4-905C-46B8-87BA-0F65741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D2D-890E-4BA9-B40E-8EE0B2AA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640-8CE0-4CB7-BCEA-F4D4F704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CD6-7AF6-4F0C-804B-539AADF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D04-D3BB-4934-865C-6CFD722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DB1-822C-4F07-957C-D2937B09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9D2-9AAC-42A0-952A-804575F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214E1-86E2-4269-9F29-5475248091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