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96479"/>
        <c:axId val="23685286"/>
      </c:barChart>
      <c:catAx>
        <c:axId val="80096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85286"/>
        <c:crosses val="autoZero"/>
        <c:auto val="1"/>
        <c:lblAlgn val="ctr"/>
        <c:lblOffset val="100"/>
        <c:noMultiLvlLbl val="0"/>
      </c:catAx>
      <c:valAx>
        <c:axId val="23685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96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EEF-98C1-44AC-9D44-C5F9FAA9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262-184E-48BC-9CFF-B469D5E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DE7-736D-4DCF-8F56-967B585E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6BD-72E9-40F3-9025-9C5CE522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ABB-3939-4BC4-B646-FE9B1D2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1C2-42A5-491D-8411-E4382EFA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550-1104-41DB-89F9-4B024E02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B00-C24F-47D9-93F0-2788727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41B-8888-4490-8261-5B8B41A0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217-885D-49F5-A609-EC7C91BC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6B5-B1C9-47E0-9714-7E12CF22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C5B-18D5-4C9C-8FD8-A6586B5B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F9B24-79BE-46EE-9B11-18DDD12111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