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44390"/>
        <c:axId val="36086961"/>
      </c:barChart>
      <c:catAx>
        <c:axId val="59644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86961"/>
        <c:crosses val="autoZero"/>
        <c:auto val="1"/>
        <c:lblAlgn val="ctr"/>
        <c:lblOffset val="100"/>
        <c:noMultiLvlLbl val="0"/>
      </c:catAx>
      <c:valAx>
        <c:axId val="36086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44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484-9445-4D9B-8A3D-9E892116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29A-E353-4952-A54B-9B034807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61E-DE8E-4835-A46C-7AD75F1D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0B6-C83A-454C-BDF3-495B6485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006-A51C-41EC-8C1A-FE805827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9A7-B6FA-4D79-A67F-9A404AE5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AB8-B8AD-45B4-B7AF-CB1BD976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A0F-7056-4DA8-9136-047BBF6D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08D-F7EE-43E6-A3DB-D685DE94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5B2-B976-4C64-BF45-098AA8D6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090-9AB1-4692-88AB-476ECA8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8B1-2748-4F24-98F0-90A6447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906A0-963B-499E-B4BD-6C5DB6E336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