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63016"/>
        <c:axId val="75098278"/>
      </c:barChart>
      <c:catAx>
        <c:axId val="675630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98278"/>
        <c:crosses val="autoZero"/>
        <c:auto val="1"/>
        <c:lblAlgn val="ctr"/>
        <c:lblOffset val="100"/>
        <c:noMultiLvlLbl val="0"/>
      </c:catAx>
      <c:valAx>
        <c:axId val="750982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630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F12C-9310-4FE4-BE36-435B44FA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578-B186-4708-8B2F-6BF188E4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E370-72BD-4869-97A1-50C23D1B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B3EB-B080-42C7-B2A6-29AAA0C0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520F-9301-43E4-BA43-07C65CE5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8DA-3119-4BFA-9154-A9BA378D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DF83-756E-4D83-A2B0-B01447E9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33F-64A2-4D73-92A7-B2E4D309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57E-9505-4616-B6BD-20EDB938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C567-56E2-4B55-8F5C-00456DB4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CB69-FA09-4836-AD99-256BB180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4106-25AA-4E5A-96FA-7F902CD8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00113-77B9-47F9-9275-1672341ACD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