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14153"/>
        <c:axId val="42335566"/>
      </c:barChart>
      <c:catAx>
        <c:axId val="22414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5566"/>
        <c:crosses val="autoZero"/>
        <c:auto val="1"/>
        <c:lblAlgn val="ctr"/>
        <c:lblOffset val="100"/>
        <c:noMultiLvlLbl val="0"/>
      </c:catAx>
      <c:valAx>
        <c:axId val="42335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4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10D-AF15-4E14-9C66-031D4749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0BF-76DF-4949-B708-0B15C3DD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42F-D905-4BC9-9B7D-1D55285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C58-4F04-4568-8AB8-FEC0DD39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E7-B44E-4A4D-A796-662AEAAB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64C-BAA3-4F40-84A5-9988EC8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6C8-9B8B-41A8-853B-4D93872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559-510B-4B95-A52E-432FD16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6C3-13EC-44EC-A416-6DF6A6B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FC8-9F0B-413B-A9A3-A522EF55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FBE-8AC0-4530-9D6D-C32FD69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FD2-4B8E-4B8A-A558-FAE82B5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853A6-6CA0-4F0B-A6BF-01A763555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