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52951"/>
        <c:axId val="74498489"/>
      </c:barChart>
      <c:catAx>
        <c:axId val="947529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98489"/>
        <c:crosses val="autoZero"/>
        <c:auto val="1"/>
        <c:lblAlgn val="ctr"/>
        <c:lblOffset val="100"/>
        <c:noMultiLvlLbl val="0"/>
      </c:catAx>
      <c:valAx>
        <c:axId val="74498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529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5D0A-F7D1-4808-9937-662F2521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776-D6AD-4334-A33E-03CA29CD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AA49-8DD3-43E4-8170-7DF2955E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000-B93D-4DA3-A9D7-511C6AC9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569-3FC3-44C2-8385-C91C9DEC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4D2-AB22-4450-AEDC-C1C3E3D6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04F-CF44-4BE8-9634-2C1DA786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B13A-47D8-4E13-B314-DD6AA0A3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7ACE-45EE-484A-B533-BF1BA157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7B3-6E18-45AD-93D3-BC51C1D9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07F-4010-475D-9E69-BDD719BF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6E2-E9EC-4424-A5D4-CB0CC09F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2E473-86B2-4255-BFDF-213CFC7AED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