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09001"/>
        <c:axId val="28903319"/>
      </c:barChart>
      <c:catAx>
        <c:axId val="44509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03319"/>
        <c:crosses val="autoZero"/>
        <c:auto val="1"/>
        <c:lblAlgn val="ctr"/>
        <c:lblOffset val="100"/>
        <c:noMultiLvlLbl val="0"/>
      </c:catAx>
      <c:valAx>
        <c:axId val="28903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09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4A2-FE54-4262-88CB-20D18011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0E5-5382-44FE-8588-7FF7BFF5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C70-E0AE-4EC0-8126-EAD0E438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1A0-0A22-4462-8669-87993094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7FDC-F249-4758-A3C2-75A7EFF7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A34-BD42-4EFB-8FC4-512780A5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BF4-2DB4-401B-AF38-F217E0BC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F1A-52CA-49CF-8ADD-784479C4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CAD-89E4-4623-96D3-6C101C41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C3A-E3A6-4B70-BCC4-0421A167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D66-112C-4173-B4D6-8E395628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62C-9FDD-4068-B070-8618BD12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DEECD-0F61-49E8-8177-E682CE4B76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