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70964"/>
        <c:axId val="82670163"/>
      </c:barChart>
      <c:catAx>
        <c:axId val="178709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70163"/>
        <c:crosses val="autoZero"/>
        <c:auto val="1"/>
        <c:lblAlgn val="ctr"/>
        <c:lblOffset val="100"/>
        <c:noMultiLvlLbl val="0"/>
      </c:catAx>
      <c:valAx>
        <c:axId val="826701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709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33CC-C5C1-45BB-9880-FFDD164B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133-699C-4992-8C2E-D0512AA7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C8B-0567-49F3-9B46-36D008DF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3D3-731A-4190-AB03-7A241F92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721-EC6A-42DD-BAED-B4E97D30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3D6-BE03-446E-8D61-0D949949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F92-ECC0-465F-8231-2E3E767C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13AB-AD75-4B3C-ADD1-3CED53EE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6BF-2404-4FE1-A49D-2D968685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50E5-DEC4-4AE9-B6C2-1B04DC50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5F55-F5EC-40F1-8E9B-0FDE6A1B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5C5E-BAE2-4CD0-9FE0-FEDEB8D8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7A4E8-78AE-4BCA-90D1-2FBD5EE5C3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