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72511"/>
        <c:axId val="65828310"/>
      </c:barChart>
      <c:catAx>
        <c:axId val="49972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8310"/>
        <c:crosses val="autoZero"/>
        <c:auto val="1"/>
        <c:lblAlgn val="ctr"/>
        <c:lblOffset val="100"/>
        <c:noMultiLvlLbl val="0"/>
      </c:catAx>
      <c:valAx>
        <c:axId val="65828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72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063-69DC-495F-BE36-7AE0D0B5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BD5-539A-483A-AFC0-5D05DE10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31B-E08A-4541-803C-53CC3CCE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4C9-0DE8-4D88-8338-C68793D9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F67-6D46-4684-9605-D106401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2E7-BB20-4A2A-B752-D4235F3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13C-9D28-4153-A79A-9AC0E561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FB5-6F28-432A-83D4-6167C08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341-559F-4A5B-993F-446D9F2F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F7F-C9F7-4B50-A1D7-BC71788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70E-C681-4DA4-9071-9B448E4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7BD-1C55-4C37-B27A-662CA47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C483-1D20-451A-976E-0ECD87C97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