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30878"/>
        <c:axId val="29055450"/>
      </c:barChart>
      <c:catAx>
        <c:axId val="32030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55450"/>
        <c:crosses val="autoZero"/>
        <c:auto val="1"/>
        <c:lblAlgn val="ctr"/>
        <c:lblOffset val="100"/>
        <c:noMultiLvlLbl val="0"/>
      </c:catAx>
      <c:valAx>
        <c:axId val="29055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30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88E-1532-4D2A-A548-738EEE9A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A52-3979-4833-ADE5-7725556A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D26-988F-4199-8347-E0335449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507-AF3A-4B16-9722-077C03B8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653-AE45-430A-9F36-B7414BE3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B24-95AB-4257-9ED3-778C201C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809-5303-4D6F-AEDF-120FEFDE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DDF-8D45-4DC5-BC29-129946BC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825-EEAE-4360-90EB-B6ED0BDB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88A-D2B2-4177-BF1D-3D1ABFE6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6EC-2FB1-469C-AE2F-31C0CC63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46B-5A9D-4927-83D7-831DC59B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2AB94-E62C-47FD-870E-9ADD805169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