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80141"/>
        <c:axId val="25943586"/>
      </c:barChart>
      <c:catAx>
        <c:axId val="558801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43586"/>
        <c:crosses val="autoZero"/>
        <c:auto val="1"/>
        <c:lblAlgn val="ctr"/>
        <c:lblOffset val="100"/>
        <c:noMultiLvlLbl val="0"/>
      </c:catAx>
      <c:valAx>
        <c:axId val="259435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801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884-4FB0-4751-A236-F5B22A7EE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2755-5519-4567-B7D6-83863CA9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BA26-EB40-4E92-9F26-95573B90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8CEC-C30F-428E-951B-7C46406B7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ADF6-6638-468C-B98A-B0307598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8256-D286-44CB-9D8A-8A2EFF076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5F25-A3CC-43FE-9EAB-12B5CEFA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AD3-5F43-4793-A981-A294DF9B7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273D-6FE2-4D85-A6E9-6AB82A08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B49-CF64-4A34-AC65-1118F84A3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0983-7043-4AE4-B272-BC94D15E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D1C-E87F-4823-901A-158C9F11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68E7A1-21BA-4349-B0EC-39626A291F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