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01281"/>
        <c:axId val="7282887"/>
      </c:barChart>
      <c:catAx>
        <c:axId val="76501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2887"/>
        <c:crosses val="autoZero"/>
        <c:auto val="1"/>
        <c:lblAlgn val="ctr"/>
        <c:lblOffset val="100"/>
        <c:noMultiLvlLbl val="0"/>
      </c:catAx>
      <c:valAx>
        <c:axId val="7282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01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CBB2-A625-4DDA-9776-E2151738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9A4-F8BA-4E8A-807F-1644A0B9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1FC-C081-4A3E-AAC0-9B95A809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AD9-38D5-48D9-9941-D7F5080A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D3DE-2086-46F1-B6C3-7F9AFA87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A13F-0797-44D5-9623-2946DDB1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A25-717A-4E1C-A747-EA461BAD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B38-952E-4106-AE29-7F1C87AF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C1D-B914-4197-978F-B25BCADE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CFE-B99D-45CE-AB42-4B8753A6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22B-43FC-41D4-889F-9195819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726-5A11-40AC-B024-FA7ADF32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2595E-3863-4BA0-AAA1-ABF6BF529C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