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71791"/>
        <c:axId val="25440739"/>
      </c:barChart>
      <c:catAx>
        <c:axId val="78471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0739"/>
        <c:crosses val="autoZero"/>
        <c:auto val="1"/>
        <c:lblAlgn val="ctr"/>
        <c:lblOffset val="100"/>
        <c:noMultiLvlLbl val="0"/>
      </c:catAx>
      <c:valAx>
        <c:axId val="25440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71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F32-3795-445A-ACAD-A33737F6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6C8-A2FF-4AAB-A3F0-00C56F4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F0A-A149-4AAF-BD69-10F5FE58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B4C-86FE-4FA8-A823-288D8385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E50-4223-4068-BA73-C651EDEA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BC3-96C0-4829-A502-D5D12C6B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8DB-492C-4ECD-9976-ACD64DC2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C01-0C5F-4B6E-908E-3536064D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BE1-3F8B-426F-8214-0FFF45E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EA7-390B-427C-A24C-514608A9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6B5-5F58-4104-9186-A21572A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15A-0546-484D-A121-1C10DD9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D883-B65D-467C-AA2C-5EB441CAF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