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E9857-86A5-43A1-9115-F6624C9AD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27365-7A78-478D-890E-D3F7B9A7C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7D7A7-2E9A-4041-AADB-C40D78FDE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AF455-FD18-460E-BFDE-D2EA7CCDF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BB5B6-2A6F-428F-A476-D811EF5A0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ECDEF-3979-443A-A170-D79177059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F5DD1-E7DF-452B-94C7-AA4EAD59A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1637A-DD8F-42D4-9B36-C4FD334C7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70ACA-14A8-43A9-974F-36F8FB928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4325D-D08E-4604-B221-65E9DA5B9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3FA4E-5376-4EEF-8898-89508CC6D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3F386-8EDB-4431-9D3A-7CF135E85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DEFAB-A5B2-4D77-9813-207A84948326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flowChartPrepa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p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flowChartManualIn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flowChartManualOpe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flowChartOffpage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ff-page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flowChartPunchedCar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lowChartPunched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unched 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umming J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flowChar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flowChartCollat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l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Alternat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flowChartSor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flowChartExtra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Ex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flowChartMer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e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tore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prstGeom prst="flowChartMagnetic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equential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gnetic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rect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defined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flowChartInternal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Internal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ulti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Termin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03:09Z</dcterms:created>
  <dc:creator>tb121644</dc:creator>
  <dc:description/>
  <dc:language>en-US</dc:language>
  <cp:lastModifiedBy>tb121644</cp:lastModifiedBy>
  <dcterms:modified xsi:type="dcterms:W3CDTF">2005-05-25T11:15:34Z</dcterms:modified>
  <cp:revision>2</cp:revision>
  <dc:subject/>
  <dc:title>Slide 1</dc:title>
</cp:coreProperties>
</file>